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241-6D65-4F53-8E78-13C82D3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11A-7414-4F27-8117-46336ED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E56-E7FF-4BF3-8C49-3A42442F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7FF-32DE-46BC-819A-4F041823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84F3-698B-4CE2-84E8-249F475B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9CE-1835-42B1-BA66-23AF2E3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CEBB-3531-4061-9FA9-192F0F2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A420-F897-4F7F-950B-175D09A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57FC-B9B2-437B-A3E2-21BD1D5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A1C-1BF5-4831-8349-8037A653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A038-B742-4F27-B247-B819D46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0FE-B86E-4E54-8082-70CC01FB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F355-6965-40DA-9FEC-F4D6DA9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2631-2C21-48FD-AE78-650A8A2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6A4-AD83-4545-A97C-3AC1C01D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51DF-2C28-4A41-96FA-A2BDD3C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719-06DE-40FA-899D-3D409894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C264-C51C-412B-963A-04C634B5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A864-6DD4-4139-B6FB-CE5B0277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3A7D-2101-46DC-9311-827610EF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7390-5455-4B14-9AFF-2BBABF2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7F38-D1FD-4318-91CD-F09FB78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758-951B-4ADC-9142-ED7CBA6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68BD-C7DA-4EA8-92C4-B46F13CC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BB68A-E9EE-4161-9C9F-E86E2C3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F7F2-DFF3-4682-AC9B-DE085B9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7AAE-499C-4F35-AF7D-36AD2D1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79D5-0C9A-45E6-80AE-B9939EA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84C7-7BB0-4D84-9453-FE409293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0ED5-FA55-4D44-804F-7724E249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FE4A-329E-4D78-9DDD-D8DC4716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81D9-9FA0-43F0-AD94-0D5766D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23F2-96AD-40D6-90E1-8D8860DC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76A-D010-42D6-9B56-81660F2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15AC-F84B-4A04-89D7-C3D35CA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E07E-D879-4C17-8ED1-2C10EE6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E20E-9333-4749-9D0B-AA4168C0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7991-A6E2-4115-A032-8275DFE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3266-EFFE-4623-9FCC-D230870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283B-1D94-4CDF-BE16-FAF4204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E490-523B-4153-8B70-A834A93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7349-780F-46CF-9D3B-A20DE201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345B-00E4-4D85-B0D4-35E1097A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20B-B721-43F1-92EC-01B22C71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4B6-C90A-46C0-B28A-DB40FBA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C7C-2300-4C23-B074-D7B217C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847-4E51-417B-9517-D890E748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5B4-937A-4521-B7CF-5634F0D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01CE-D97B-4364-A367-DA99852BF4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57B-ADBB-4584-8205-306B01991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2C4-53D5-4B98-885A-0E280CB7D6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78EE-1C65-4060-A979-6FF63A7DF3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编程控制器应用基础</a:t>
            </a:r>
            <a:br>
              <a:rPr sz="54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模块式技能实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中职系列教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08800" y="4076640"/>
            <a:ext cx="18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四六  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纪文超  副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58280" y="62056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民邮电出版社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10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8261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扫描工作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采用循环扫描方式工作。从第一条程序开始，按顺序逐条执行程序，直到程序结束。然后再从头开始扫描，并周而复始地重复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工作时的扫描过程包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阶段：内部处理、通信处理、输入扫描、程序执行、输出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32720" y="1413000"/>
          <a:ext cx="18921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413000"/>
                    <a:ext cx="18921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81360"/>
            <a:ext cx="35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 X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逻辑操作开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开接点并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1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2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输出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程序结束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349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梯形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使用得最多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形编程语言。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所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控制程序，就是用梯形图语言编制的一段程序。实际编程时，总是先写出梯形图程序，如果需要，再根据梯形图写出指令表程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581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指令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亦称语句表）类似于计算机汇编语言的形式，它是采用指令的助记符来编程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950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顺序功能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详见本书模块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24000" y="170028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三种编程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63066" t="25759" r="-2452" b="28003"/>
          <a:stretch/>
        </p:blipFill>
        <p:spPr>
          <a:xfrm>
            <a:off x="4859280" y="2276640"/>
            <a:ext cx="324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148360" y="3884760"/>
          <a:ext cx="399564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884760"/>
                    <a:ext cx="399564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55200" y="2421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4365720"/>
            <a:ext cx="1081080" cy="1728720"/>
          </a:xfrm>
          <a:prstGeom prst="wedgeRoundRectCallout">
            <a:avLst>
              <a:gd name="adj1" fmla="val 17106"/>
              <a:gd name="adj2" fmla="val -9031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三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2N -32MR-001 P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14840" y="3206880"/>
            <a:ext cx="615960" cy="106020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200"/>
              <a:gd name="textAreaBottom" fmla="*/ 79524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4880" y="39085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C09_HPP" descr=""/>
          <p:cNvPicPr/>
          <p:nvPr/>
        </p:nvPicPr>
        <p:blipFill>
          <a:blip r:embed="rId3"/>
          <a:srcRect l="5102" t="14179" r="14891" b="0"/>
          <a:stretch/>
        </p:blipFill>
        <p:spPr>
          <a:xfrm>
            <a:off x="1042920" y="1628640"/>
            <a:ext cx="1467000" cy="2086200"/>
          </a:xfrm>
          <a:prstGeom prst="rect">
            <a:avLst/>
          </a:prstGeom>
          <a:ln w="0">
            <a:noFill/>
          </a:ln>
        </p:spPr>
      </p:pic>
      <p:pic>
        <p:nvPicPr>
          <p:cNvPr id="382" name="SC09_PLC" descr=""/>
          <p:cNvPicPr/>
          <p:nvPr/>
        </p:nvPicPr>
        <p:blipFill>
          <a:blip r:embed="rId4"/>
          <a:srcRect l="3140" t="0" r="0" b="0"/>
          <a:stretch/>
        </p:blipFill>
        <p:spPr>
          <a:xfrm>
            <a:off x="2556000" y="1628640"/>
            <a:ext cx="1533240" cy="2086200"/>
          </a:xfrm>
          <a:prstGeom prst="rect">
            <a:avLst/>
          </a:prstGeom>
          <a:ln w="0">
            <a:noFill/>
          </a:ln>
        </p:spPr>
      </p:pic>
      <p:pic>
        <p:nvPicPr>
          <p:cNvPr id="383" name="FX-20P-CAB" descr=""/>
          <p:cNvPicPr/>
          <p:nvPr/>
        </p:nvPicPr>
        <p:blipFill>
          <a:blip r:embed="rId5"/>
          <a:srcRect l="42092" t="0" r="3368" b="0"/>
          <a:stretch/>
        </p:blipFill>
        <p:spPr>
          <a:xfrm>
            <a:off x="4140360" y="1628640"/>
            <a:ext cx="1514160" cy="2095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640" y="1700280"/>
            <a:ext cx="21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2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4365720"/>
            <a:ext cx="1081080" cy="1728720"/>
          </a:xfrm>
          <a:prstGeom prst="wedgeRoundRectCallout">
            <a:avLst>
              <a:gd name="adj1" fmla="val -4476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持式编程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4365720"/>
            <a:ext cx="1081080" cy="1728720"/>
          </a:xfrm>
          <a:prstGeom prst="wedgeRoundRectCallout">
            <a:avLst>
              <a:gd name="adj1" fmla="val 23421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CA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适配电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79320" y="628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三菱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47880" y="3797280"/>
            <a:ext cx="3779640" cy="2870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265800" cy="2687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6156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5148000" y="4724280"/>
            <a:ext cx="615960" cy="106056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560"/>
              <a:gd name="textAreaBottom" fmla="*/ 79560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4880" y="73512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3032280" cy="157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71640" y="2060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姆龙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6640" y="15811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彩灯亮灭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开关控制电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16360" y="2204280"/>
            <a:ext cx="280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4840" y="407556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5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彩灯开关控制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2400" y="595008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14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彩灯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开关控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76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237492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619240" y="5050440"/>
            <a:ext cx="189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64800" y="19162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训内容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输入输出继电器的接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58560" y="3213000"/>
            <a:ext cx="362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部接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输入继电器与输入端子之间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负载、负载供电电源之间的联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理解程序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控制系统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了解手持式编程工具的一般应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6020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6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实训电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8440" y="5733000"/>
            <a:ext cx="62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a)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b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7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及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90800" cy="38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0" b="8326"/>
          <a:stretch/>
        </p:blipFill>
        <p:spPr>
          <a:xfrm>
            <a:off x="4414680" y="2421000"/>
            <a:ext cx="47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691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思考下列问题，将正确的答案填入空白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可编程控制器的内部有很多等效继电器，但只有输入继电器和输出继电器是可以与外围设备进行连接的，其中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驱动线圈有外部接线端子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动合触头有外部接线端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主要编程设备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输出接口电路一般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全书共分八个模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二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F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三  基本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四  三相异步电动机的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五  步进指令及状态编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六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程序流程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七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比较、逻辑运算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八  其他功能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常见应用系统的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特点及应用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硬件结构和软件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3456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种“启－保－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电路的比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71640" y="2708280"/>
          <a:ext cx="32274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32274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788000" y="6021360"/>
            <a:ext cx="3382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电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继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触器控制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24360" cy="29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63066" t="25759" r="-2452" b="28003"/>
          <a:stretch/>
        </p:blipFill>
        <p:spPr>
          <a:xfrm>
            <a:off x="5508720" y="4437000"/>
            <a:ext cx="2725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编程控制器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编程方法简单易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功能强，性能价格比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硬件配套齐全，用户使用方便，适应性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靠性高，抗干扰能力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系统的设计、安装、调试工作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维修工作量小，维修方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积小，能耗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4652640"/>
            <a:ext cx="367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-4  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逻辑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453" r="0" b="1026"/>
          <a:stretch/>
        </p:blipFill>
        <p:spPr>
          <a:xfrm>
            <a:off x="4859280" y="3645000"/>
            <a:ext cx="4284720" cy="30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1484280"/>
          <a:ext cx="496872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968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19640" y="2133720"/>
            <a:ext cx="360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-3  FX2N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系列可编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器的外形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种输入接口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465800" cy="240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276640"/>
            <a:ext cx="30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直流输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电路外接电源的极性可任意，单元中含有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构成的滤波电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6760" y="4653000"/>
            <a:ext cx="41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交流输入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元中含有隔直流电容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直流及交流输入电路中均采用光耦实现输入信号与机内电路的耦合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种输出接口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体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输出电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76720" cy="2117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7883" t="12699" r="10536" b="6779"/>
          <a:stretch/>
        </p:blipFill>
        <p:spPr>
          <a:xfrm>
            <a:off x="611280" y="3357720"/>
            <a:ext cx="3816360" cy="208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13832" t="7795" r="16649" b="8642"/>
          <a:stretch/>
        </p:blipFill>
        <p:spPr>
          <a:xfrm>
            <a:off x="4427640" y="4665600"/>
            <a:ext cx="4446360" cy="2192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24360" y="400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闸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2349360"/>
            <a:ext cx="976320" cy="412920"/>
          </a:xfrm>
          <a:prstGeom prst="rightArrow">
            <a:avLst>
              <a:gd name="adj1" fmla="val 50000"/>
              <a:gd name="adj2" fmla="val 5911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933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28920" y="5013360"/>
            <a:ext cx="135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内置输入控制回路直流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工作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程序“工作电源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1280" y="5013360"/>
            <a:ext cx="70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辅助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主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负载工作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-341280"/>
            <a:ext cx="54612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697440" cy="505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7240" y="1267200"/>
            <a:ext cx="6069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等效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7:52Z</dcterms:created>
  <dc:creator>雨林木风</dc:creator>
  <dc:description/>
  <dc:language>en-US</dc:language>
  <cp:lastModifiedBy>雨林木风</cp:lastModifiedBy>
  <dcterms:modified xsi:type="dcterms:W3CDTF">2010-10-05T07:26:08Z</dcterms:modified>
  <cp:revision>47</cp:revision>
  <dc:subject/>
  <dc:title> S7-200系列可编程控制器 应 用 基 础</dc:title>
</cp:coreProperties>
</file>